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2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43E-B15E-4A52-B596-D9A0D15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612-6BA1-4617-9AF7-2DD547CA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42F-89EE-4918-9183-1D7D9BFD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DB6-AEAA-460F-82E3-3697DE3C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0AE-80D9-4C73-BAB6-5B22EAA2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30D-1AE4-463D-8876-4E87E7A2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FF09-5CFC-4AEA-B4FB-3E615254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722-A392-40B2-B581-69E2323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EFE3-7AF0-42CF-93CD-ACD1A8EE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A152-E705-4AF1-8371-D3DBC890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6AD0-51B2-45A5-8DF4-E13E7C3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641D-A217-4EB5-86D2-F58BE2D6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F7A1-9077-402D-B027-7CBDFAA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2AF8-F654-49E7-B68B-ED995AA1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54D-40EE-4A47-8936-2BD7EA6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1AC7-8B2E-407D-A26B-C25A2BD0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8FD0-B380-4EBE-BF24-83A00238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C82-8E01-47C2-BF49-CC93E1CD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21C-E00B-4F4F-81B0-AA341E40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A64-3711-4824-8AA8-1078ADDF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628-0028-40DD-94D7-B01FEA9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0FD-6A5E-4A9E-B424-1077664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7A7-524B-417D-96A5-03B8E85E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852-3E0B-46E0-9D86-DAAC9C8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8881-1881-4E6E-84F3-C8D5834EE0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695C-DB19-4961-97C3-2D431CE8AF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1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3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3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o razlikujemo tv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pluteni čep pluta na vo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11" name="Slika 1" descr=""/>
          <p:cNvPicPr/>
          <p:nvPr/>
        </p:nvPicPr>
        <p:blipFill>
          <a:blip r:embed="rId3"/>
          <a:stretch/>
        </p:blipFill>
        <p:spPr>
          <a:xfrm>
            <a:off x="3203640" y="2087640"/>
            <a:ext cx="23842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981000"/>
            <a:ext cx="5843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od ovoga plutati: komadić drva, plastični čep, kamenčić, spajalica, voštana bojica i kap ulj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Gustoća i plivan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utaj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 plutaj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av utjecaj na plutanje tijela u vodi ima gustoć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Content Placeholder 3" descr="SnapShot(298).jpg"/>
          <p:cNvPicPr/>
          <p:nvPr/>
        </p:nvPicPr>
        <p:blipFill>
          <a:blip r:embed="rId6"/>
          <a:srcRect l="3150" t="14348" r="34844" b="0"/>
          <a:stretch/>
        </p:blipFill>
        <p:spPr>
          <a:xfrm>
            <a:off x="6143760" y="1844640"/>
            <a:ext cx="254304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ustoće nekih tvar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rak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.29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lje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8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ed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92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da: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0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luminij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27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lik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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85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lovo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13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iva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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36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lato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9300 kg/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rimjeri računskih zadatak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a je gustoća tvari od koje je kvadar mase 450 g i obujma 20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450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20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Kolika je gustoća tijela mase 2 kg i obujma 1 d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2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 d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bez vage mogli odrediti masu vo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džba mase: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 = V ·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78920" y="347400"/>
            <a:ext cx="87138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redite masu vode koja potpuno ispuni bocu od 3 lit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 poznate mase utega 1kg i podataka za gustoću željeza odredite volumen uteg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7" name="Slika 1" descr=""/>
          <p:cNvPicPr/>
          <p:nvPr/>
        </p:nvPicPr>
        <p:blipFill>
          <a:blip r:embed="rId5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prepoznati i razlikovati tvar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ako su predmeti istog oblika i veličine, a različitih mas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od čega su ute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utvrditi od kojeg su materijala utez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rebno je odrediti gustoću te u tablici gustoća pogledati o kojoj se tvari radi. Za to moramo odrediti masu i obujam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DSC00530.JPG"/>
          <p:cNvPicPr/>
          <p:nvPr/>
        </p:nvPicPr>
        <p:blipFill>
          <a:blip r:embed="rId4"/>
          <a:srcRect l="28115" t="20049" r="31452" b="26204"/>
          <a:stretch/>
        </p:blipFill>
        <p:spPr>
          <a:xfrm>
            <a:off x="3059280" y="2459160"/>
            <a:ext cx="2835000" cy="2122200"/>
          </a:xfrm>
          <a:prstGeom prst="rect">
            <a:avLst/>
          </a:prstGeom>
          <a:ln w="0">
            <a:noFill/>
          </a:ln>
        </p:spPr>
      </p:pic>
      <p:pic>
        <p:nvPicPr>
          <p:cNvPr id="90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24000" y="1844640"/>
          <a:ext cx="8569080" cy="4272120"/>
        </p:xfrm>
        <a:graphic>
          <a:graphicData uri="http://schemas.openxmlformats.org/drawingml/2006/table">
            <a:tbl>
              <a:tblPr/>
              <a:tblGrid>
                <a:gridCol w="2197080"/>
                <a:gridCol w="2124000"/>
                <a:gridCol w="1830240"/>
                <a:gridCol w="2417760"/>
              </a:tblGrid>
              <a:tr h="151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je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/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uj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/cm</a:t>
                      </a:r>
                      <a:r>
                        <a:rPr b="1" lang="hr-HR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ični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i ute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ute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ći ute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7078680" y="2344680"/>
                <a:ext cx="12700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su li mjerenja pokazala da su utezi načinjeni od iste tvari? Ako ne, pokušajte objasniti zaš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vari razlikujemo prema njihovoj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ustoć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ustoća je svojstvo tv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tijelo nije građeno samo od jedne tvari ili nije savim ispunjeno tom tvari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ustoća tijel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e razlikuje od gustoće tvar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62080" y="980640"/>
            <a:ext cx="87026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izračunavamo gustoć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ustoća tijela je količnik mase i volumena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džba gustoć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6"/>
          <a:stretch/>
        </p:blipFill>
        <p:spPr>
          <a:xfrm>
            <a:off x="3220920" y="440064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00" name="Slika 1" descr=""/>
          <p:cNvPicPr/>
          <p:nvPr/>
        </p:nvPicPr>
        <p:blipFill>
          <a:blip r:embed="rId8"/>
          <a:stretch/>
        </p:blipFill>
        <p:spPr>
          <a:xfrm>
            <a:off x="2309760" y="2781360"/>
            <a:ext cx="4273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395280" y="836640"/>
            <a:ext cx="813744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Mjerna jedinica gustoće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kilogram po metru kubnom  (kg/m</a:t>
            </a:r>
            <a:r>
              <a:rPr b="1" lang="hr-HR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koristima i mjernu jedinicu  gram po centimetru kubnom (g/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4000" y="1091880"/>
            <a:ext cx="864072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j gustoći izraženoj u gramu po centimetru kubnom odgovara gustoća od jednog kilograma po metru kubno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266840" y="3645000"/>
            <a:ext cx="6343560" cy="1439640"/>
          </a:xfrm>
          <a:prstGeom prst="rect">
            <a:avLst/>
          </a:prstGeom>
          <a:ln w="0">
            <a:noFill/>
          </a:ln>
        </p:spPr>
      </p:pic>
      <p:pic>
        <p:nvPicPr>
          <p:cNvPr id="10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li gustoća željeznog broda jednaka gustoći željeza? Čime je ispunjen br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  <a:ea typeface="Arial"/>
              </a:rPr>
              <a:t>Ako tijelo nije građeno samo od jedne tvari ili nije sasvim ispunjeno tom tvari, gustoća tijela razlikuje se od gustoće tv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08" name="Slika 1" descr=""/>
          <p:cNvPicPr/>
          <p:nvPr/>
        </p:nvPicPr>
        <p:blipFill>
          <a:blip r:embed="rId4"/>
          <a:stretch/>
        </p:blipFill>
        <p:spPr>
          <a:xfrm>
            <a:off x="4356000" y="1989000"/>
            <a:ext cx="3672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2:24:58Z</dcterms:created>
  <dc:creator>Mladen Vidović</dc:creator>
  <dc:description/>
  <dc:language>en-US</dc:language>
  <cp:lastModifiedBy>MArina Dumančić</cp:lastModifiedBy>
  <dcterms:modified xsi:type="dcterms:W3CDTF">2019-09-13T21:03:30Z</dcterms:modified>
  <cp:revision>71</cp:revision>
  <dc:subject/>
  <dc:title>Gustoća</dc:title>
</cp:coreProperties>
</file>